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6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4.png" ContentType="image/png"/>
  <Override PartName="/ppt/media/image27.png" ContentType="image/png"/>
  <Override PartName="/ppt/media/image25.png" ContentType="image/png"/>
  <Override PartName="/ppt/media/image23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8.gif" ContentType="image/gif"/>
  <Override PartName="/ppt/media/image14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930B4-E807-4A41-8CF0-C1AA74712DF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0C40-C4B4-4238-88DE-7FF8A3AF2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CC38-749C-4DD0-A1FA-401B2D230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7149-CEA6-4FD7-8230-B7DF4CFF9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8F14-71C9-4222-A415-64A7D817B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F820-8A25-421B-8555-A16AA9F8D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1D40-DD9E-4927-81D0-6DD3A2EB4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5EDA-1491-4467-B28E-7212CE1D8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9F1F-1961-4739-88D7-A917B7986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AA9B-6498-4081-9BB1-B7D7E2805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35D1-4E97-4CD5-AC8B-7BFF80AE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334C-A85C-4327-B724-99A20D70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A967-6C36-4113-8B35-7E496080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68911-C452-4189-803C-CCC74262EA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6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116000" y="692280"/>
            <a:ext cx="712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第三章  保护生物的多样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ubRRectCallout"/>
          <p:cNvSpPr/>
          <p:nvPr/>
        </p:nvSpPr>
        <p:spPr>
          <a:xfrm>
            <a:off x="0" y="152280"/>
            <a:ext cx="9144000" cy="2210040"/>
          </a:xfrm>
          <a:custGeom>
            <a:avLst/>
            <a:gdLst>
              <a:gd name="textAreaLeft" fmla="*/ 61200 w 9144000"/>
              <a:gd name="textAreaRight" fmla="*/ 9063360 w 9144000"/>
              <a:gd name="textAreaTop" fmla="*/ 14760 h 2210040"/>
              <a:gd name="textAreaBottom" fmla="*/ 1750320 h 221004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228600"/>
            <a:ext cx="883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是什么原因造成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藏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羚羊濒临灭绝？你身边是否有类似的现象发生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71800" y="2362320"/>
            <a:ext cx="6172200" cy="4114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2971800"/>
            <a:ext cx="510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是非法武装盗猎分子对藏羚羊疯狂的捕杀造成的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2438280"/>
            <a:ext cx="2971800" cy="38862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ubOvalCallout"/>
          <p:cNvSpPr/>
          <p:nvPr/>
        </p:nvSpPr>
        <p:spPr>
          <a:xfrm>
            <a:off x="838080" y="0"/>
            <a:ext cx="7925040" cy="1981080"/>
          </a:xfrm>
          <a:custGeom>
            <a:avLst/>
            <a:gdLst>
              <a:gd name="textAreaLeft" fmla="*/ 1160280 w 7925040"/>
              <a:gd name="textAreaRight" fmla="*/ 6764760 w 7925040"/>
              <a:gd name="textAreaTop" fmla="*/ 217440 h 1981080"/>
              <a:gd name="textAreaBottom" fmla="*/ 1269000 h 198108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28800" y="1522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生活污水排入水体，为什么导致水生动物种类减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loud"/>
          <p:cNvSpPr/>
          <p:nvPr/>
        </p:nvSpPr>
        <p:spPr>
          <a:xfrm>
            <a:off x="0" y="1752480"/>
            <a:ext cx="9144000" cy="5105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43000" y="3124080"/>
            <a:ext cx="7391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25146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生活污水排入水体，大大促进了水体的富营养化，使藻类植物和其它浮游生物大量繁殖。这些生物遗体被分解时，大量消耗水中氧气，并产生有毒物质，从而导致鱼类和其它水生生物大量死亡，种类和数量锐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720" cy="9907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ubRRectCallout"/>
          <p:cNvSpPr/>
          <p:nvPr/>
        </p:nvSpPr>
        <p:spPr>
          <a:xfrm>
            <a:off x="2590920" y="0"/>
            <a:ext cx="6324480" cy="2895480"/>
          </a:xfrm>
          <a:custGeom>
            <a:avLst/>
            <a:gdLst>
              <a:gd name="textAreaLeft" fmla="*/ 42120 w 6324480"/>
              <a:gd name="textAreaRight" fmla="*/ 6268680 w 6324480"/>
              <a:gd name="textAreaTop" fmla="*/ 19080 h 2895480"/>
              <a:gd name="textAreaBottom" fmla="*/ 2293200 h 289548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48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666880" y="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水葫芦的疯长为什么会影响其他水生生物的生存吗？你生活的地方是否有类似的事情发生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ile"/>
          <p:cNvSpPr/>
          <p:nvPr/>
        </p:nvSpPr>
        <p:spPr>
          <a:xfrm>
            <a:off x="762120" y="2590920"/>
            <a:ext cx="8076960" cy="40291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19320" y="320040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水葫芦的疯长，使得其他水生植物和水生动物失去生存空间和营养物质，导致其他水生植物和水生动物的种类和数量减少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90920" cy="24382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-46080"/>
            <a:ext cx="9144000" cy="72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66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9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8763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归纳：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造成生物多样性面临威胁的原因主要有哪些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6920" y="1844640"/>
            <a:ext cx="807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生存环境的改变和破坏（乱砍滥伐）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335268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掠夺式的开发和利用（乱捕滥杀）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16000" y="4869000"/>
            <a:ext cx="472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环境污染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42920" y="5661000"/>
            <a:ext cx="676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外来物种的入侵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6212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、保护生物多样性的措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1280" y="2205000"/>
            <a:ext cx="80010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１、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就地保护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最为有效的措施。例如：建立自然保护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4360" y="3500280"/>
            <a:ext cx="80769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２、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迁地保护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对就地保护的补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如：植物园、动物园、水族馆、基因库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544500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３、颁布和实施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法律文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577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050920" y="5300640"/>
            <a:ext cx="487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长白山自然保护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2293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133720" y="22860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你知道我国有哪些自然保护区？主要保护的是哪些生物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84360" y="602136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新宋体"/>
              </a:rPr>
              <a:t>温带森林生态系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9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006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835280" y="5300640"/>
            <a:ext cx="579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青海湖鸟岛自然保护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621648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斑头雁、棕头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332000" y="549360"/>
            <a:ext cx="7345440" cy="59356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80880" y="1447920"/>
            <a:ext cx="685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四川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大熊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然保护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50920" y="692280"/>
            <a:ext cx="990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扎龙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丹顶鹤</a:t>
            </a:r>
            <a:r>
              <a:rPr b="1" lang="zh-CN" sz="3200" spc="-1" strike="noStrike">
                <a:solidFill>
                  <a:srgbClr val="414141"/>
                </a:solidFill>
                <a:latin typeface="Times New Roman"/>
              </a:rPr>
              <a:t>自然保护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116000" y="260280"/>
            <a:ext cx="782316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042920" y="227664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ff"/>
                </a:solidFill>
                <a:latin typeface="黑体"/>
                <a:ea typeface="黑体"/>
              </a:rPr>
              <a:t>一、生物多样性面临的威胁及原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68360" y="476280"/>
            <a:ext cx="2087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_x000b__x000c_"/>
              </a:rPr>
              <a:t>浙江省凤阳山</a:t>
            </a:r>
            <a:r>
              <a:rPr b="1" lang="zh-CN" sz="3600" spc="-1" strike="noStrike">
                <a:solidFill>
                  <a:srgbClr val="000000"/>
                </a:solidFill>
                <a:latin typeface="_x000b__x000c_"/>
              </a:rPr>
              <a:t>----</a:t>
            </a:r>
            <a:r>
              <a:rPr b="1" lang="zh-CN" sz="3600" spc="-1" strike="noStrike">
                <a:solidFill>
                  <a:srgbClr val="ff0000"/>
                </a:solidFill>
                <a:latin typeface="_x000b__x000c_"/>
              </a:rPr>
              <a:t>百山祖国家级自然保护区</a:t>
            </a:r>
            <a:r>
              <a:rPr b="1" lang="zh-CN" sz="3600" spc="-1" strike="noStrike">
                <a:solidFill>
                  <a:srgbClr val="000000"/>
                </a:solidFill>
                <a:latin typeface="_x000b__x000c_"/>
              </a:rPr>
              <a:t>，现生存着我国濒临灭绝的国家一级保护动物</a:t>
            </a:r>
            <a:r>
              <a:rPr b="1" lang="zh-CN" sz="3600" spc="-1" strike="noStrike">
                <a:solidFill>
                  <a:srgbClr val="ff0066"/>
                </a:solidFill>
                <a:latin typeface="_x000b__x000c_"/>
              </a:rPr>
              <a:t>华南虎</a:t>
            </a:r>
            <a:r>
              <a:rPr b="1" lang="zh-CN" sz="3600" spc="-1" strike="noStrike">
                <a:solidFill>
                  <a:srgbClr val="000000"/>
                </a:solidFill>
                <a:latin typeface="_x000b__x000c_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059280" y="404640"/>
            <a:ext cx="577044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8600" y="3200400"/>
            <a:ext cx="8915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这是一个真实的事例。它发生在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世纪末我国广西崇左县。崇左县农民与我国的一种珍稀动物－白头叶猴生活的区域极为接近。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白头叶猴主要以植物的嫩叶、枝条为食，农民靠砍伐的树木烧水、做饭和取暖等。要砍伐树木导致白头叶猴的栖息地越来越小，可以食用的植物越来越少。要保护白头叶猴，就必须建立自然保护区，禁止采伐植物，而这会触及当地农民的利益，影响他们的生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19720" cy="3048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332000" y="1052640"/>
            <a:ext cx="345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971640" y="333360"/>
            <a:ext cx="52578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隶书"/>
              </a:rPr>
              <a:t>探究活动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29" name=""/>
          <p:cNvSpPr/>
          <p:nvPr/>
        </p:nvSpPr>
        <p:spPr>
          <a:xfrm>
            <a:off x="1476360" y="3500280"/>
            <a:ext cx="61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3200400"/>
            <a:ext cx="78487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角色扮演：辩论和协商怎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          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保护白头叶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04920" y="1508040"/>
            <a:ext cx="87627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类与白头叶猴可以和谐共处吗？答案是：可以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在崇左弄官的北京大学生物多样性科研基地，潘文石教授给记者讲了这样一件事情：１９９６年的时候，一个当地农民给我送来一只受伤的白头叶猴，我很感动，但是我对他说我不能给他金钱的回报。如果我给他钱，那就会造成一种误解，让人们认为白头叶猴可以换钱，我们所期待的是一种环保意识的真正改变，我们所盼望的是人与自然的和谐共处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和谐共处不是梦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10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2843280" y="907920"/>
            <a:ext cx="597204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你听过一个女大学生保护丹顶鹤的故事吗？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268360" y="5877000"/>
            <a:ext cx="64800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9" dur="259976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187280" y="549360"/>
            <a:ext cx="7667640" cy="67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伴随着《一个真实的故事》委婉动人的歌声，离我们远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的仙鹤姑娘徐秀娟又回到了人们身边。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前，她为救助飞失的丹顶鹤，不幸遇难江苏省盐城市复堆河，成为我国环境保护战线第一位因公殉职的烈士。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来，人们到处传唱歌曲：《一个真实的故事》，深情地怀念这位人与自然和谐相处的楷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徐秀娟生前喂养过的丹顶鹤莎莎，已经有了儿女和第三代，野外散放的丹顶鹤数量也已达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只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0920" y="1700280"/>
            <a:ext cx="1152360" cy="367344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6600"/>
                </a:solidFill>
                <a:latin typeface="方正舒体"/>
                <a:ea typeface="方正舒体"/>
              </a:rPr>
              <a:t>知识链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042920" y="501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0" dur="indefinite" restart="never" nodeType="tmRoot">
          <p:childTnLst>
            <p:seq>
              <p:cTn id="331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332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5" dur="47302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900000" y="1773360"/>
            <a:ext cx="777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在保护我国多样性方面，作为一个中学生应当怎样做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79280" y="1981080"/>
            <a:ext cx="856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一、填空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生物多样性面临威胁的原因是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           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的改变和破坏，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        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的开发利用，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        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污染，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                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的影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03640" y="620640"/>
            <a:ext cx="273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堂上检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04000" y="25653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333399"/>
                </a:solidFill>
                <a:uFillTx/>
                <a:latin typeface="Times New Roman"/>
              </a:rPr>
              <a:t>生存环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2997360"/>
            <a:ext cx="165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掠夺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164360" y="299736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333399"/>
                </a:solidFill>
                <a:uFillTx/>
                <a:latin typeface="Times New Roman"/>
              </a:rPr>
              <a:t>环境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92360" y="350028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外来物种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二、选择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、下列未被列入我国珍希哺乳类保护动物的是（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A.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金丝猴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B.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白鳍豚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C.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藏羚羊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D.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宠物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79640" y="299736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、被称为植物活化石和中国鸽子树的珍稀植物是（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A.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银杉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B.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珙桐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C.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铁树 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D.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银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95640" y="213372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24000" y="941400"/>
            <a:ext cx="8362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、如果一个物种的所有个体都从地球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消失了，那么这个物种就已经（ 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306864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A.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灭绝  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B.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濒危 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C.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再生 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D.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受到威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020000" y="1773360"/>
            <a:ext cx="60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宋体"/>
              </a:rPr>
              <a:t>A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62120" y="3808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、下列有关保护生物多样性的观念中，恰当的是（ 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38080" y="18763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A.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物种灭绝后，还可以再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522936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D.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与人类没有直接利益及关系的生物，也应该保留下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393372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C.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引入世界各地不同的生物，以增加我国的生物多样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8080" y="263844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B.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生物多样性的消失对人类自身不会产生威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284720" y="981000"/>
            <a:ext cx="60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宋体"/>
              </a:rPr>
              <a:t>D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838080" y="533520"/>
            <a:ext cx="7848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、造成野生动植物濒危和灭绝的主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原因是（ 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2112840"/>
            <a:ext cx="777240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A.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人类对野生动植物的过度狩猎或采伐，对栖息地环境的污染和改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B.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物种退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C.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食物链中弱肉强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D.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人类对野生动植物资源的合理开发和利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971800" y="1339920"/>
            <a:ext cx="53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宋体"/>
              </a:rPr>
              <a:t>A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762120" y="533520"/>
            <a:ext cx="78483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6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、数千年前我国黄土高原有茂密的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林，后来却成了荒山秃岭，植被减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的原因是（ 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2971800"/>
            <a:ext cx="61722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A.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地壳运动频繁  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B.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北方寒流长期侵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C.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长年干旱，赤地千里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D.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过度开发破坏生态平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22096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宋体"/>
              </a:rPr>
              <a:t>D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50920" y="765000"/>
            <a:ext cx="8686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7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、下列哪种不属于我国特有的珍稀植物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（ 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11280" y="306864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A.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银杉 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B.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水杉 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C.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人参 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D.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珙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66880" y="156384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宋体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95280" y="622440"/>
            <a:ext cx="80629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8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、下列我国特产的珍稀动物中，属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水生哺乳动物而且正处于灭绝边缘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是（ 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316872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A.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大熊猫 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B.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扬子鳄 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C.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大蟒 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D.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白鳍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92360" y="22050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宋体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5219640" y="2997360"/>
            <a:ext cx="2879640" cy="13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</a:t>
            </a: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,</a:t>
            </a: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再见</a:t>
            </a: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!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8360" y="-603360"/>
            <a:ext cx="4475160" cy="8425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310360" y="549360"/>
            <a:ext cx="1277640" cy="63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人类的多米诺骨牌会倒下吗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820000" cy="53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1640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4000" y="4076640"/>
            <a:ext cx="3639960" cy="25164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50920" y="4076640"/>
            <a:ext cx="208764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白鳍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58920" y="3213000"/>
            <a:ext cx="22334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金丝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5003640" y="907920"/>
            <a:ext cx="3816360" cy="26416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4788000" y="4149720"/>
            <a:ext cx="3240000" cy="22446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956720" y="4508640"/>
            <a:ext cx="8632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扬子鳄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0" y="0"/>
            <a:ext cx="4572000" cy="3164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258920" y="3213000"/>
            <a:ext cx="22334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金丝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5003640" y="907920"/>
            <a:ext cx="3816360" cy="2641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724360" y="260280"/>
            <a:ext cx="2376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7"/>
          <a:stretch/>
        </p:blipFill>
        <p:spPr>
          <a:xfrm>
            <a:off x="4788000" y="4149720"/>
            <a:ext cx="3240000" cy="2244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956720" y="4508640"/>
            <a:ext cx="8632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扬子鳄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238440" y="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朱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3429000" cy="4926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284720" y="3068640"/>
            <a:ext cx="4572000" cy="3051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470560" y="1773360"/>
            <a:ext cx="3673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珙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19280" y="5445000"/>
            <a:ext cx="26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银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以上实例说明，我国生物多样性正面临着严重的</a:t>
            </a:r>
            <a:r>
              <a:rPr b="0" lang="zh-CN" sz="6000" spc="-1" strike="noStrike" u="sng">
                <a:solidFill>
                  <a:srgbClr val="ff0066"/>
                </a:solidFill>
                <a:uFillTx/>
                <a:latin typeface="Arial"/>
                <a:ea typeface="新宋体"/>
              </a:rPr>
              <a:t>威胁。</a:t>
            </a:r>
            <a:r>
              <a:rPr b="0" lang="zh-CN" sz="6000" spc="-1" strike="noStrike">
                <a:solidFill>
                  <a:srgbClr val="ff0066"/>
                </a:solidFill>
                <a:latin typeface="Arial"/>
                <a:ea typeface="新宋体"/>
              </a:rPr>
              <a:t>原因有哪些呢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260280"/>
            <a:ext cx="270036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404640"/>
            <a:ext cx="245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幼圆"/>
              </a:rPr>
              <a:t>合作交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ubRRectCallout"/>
          <p:cNvSpPr/>
          <p:nvPr/>
        </p:nvSpPr>
        <p:spPr>
          <a:xfrm>
            <a:off x="304920" y="1295280"/>
            <a:ext cx="8686800" cy="1600200"/>
          </a:xfrm>
          <a:custGeom>
            <a:avLst/>
            <a:gdLst>
              <a:gd name="textAreaLeft" fmla="*/ 57960 w 8686800"/>
              <a:gd name="textAreaRight" fmla="*/ 8610120 w 8686800"/>
              <a:gd name="textAreaTop" fmla="*/ 10440 h 1600200"/>
              <a:gd name="textAreaBottom" fmla="*/ 1267200 h 160020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129528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森林大面积减少对生物多样性有哪些影响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ilecab3"/>
          <p:cNvSpPr/>
          <p:nvPr/>
        </p:nvSpPr>
        <p:spPr>
          <a:xfrm>
            <a:off x="0" y="2976480"/>
            <a:ext cx="9144000" cy="388152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304812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森林大面积减少使森林生态系统遭到破坏，造成</a:t>
            </a:r>
            <a:r>
              <a:rPr b="1" lang="zh-CN" sz="4000" spc="-1" strike="noStrike">
                <a:solidFill>
                  <a:srgbClr val="cc6600"/>
                </a:solidFill>
                <a:latin typeface="Arial"/>
              </a:rPr>
              <a:t>空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669900"/>
                </a:solidFill>
                <a:latin typeface="Arial"/>
              </a:rPr>
              <a:t>地面湿度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降低，使许多植物，尤其是阴湿植物减少或衰亡；同时由于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动物失去了栖息地和食物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一些动物种类数量急剧减少，以至濒临灭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9T13:17:39Z</dcterms:created>
  <dc:creator>SkyUN.Org</dc:creator>
  <dc:description/>
  <dc:language>en-US</dc:language>
  <cp:lastModifiedBy>微软用户</cp:lastModifiedBy>
  <dcterms:modified xsi:type="dcterms:W3CDTF">2011-12-26T03:09:08Z</dcterms:modified>
  <cp:revision>23</cp:revision>
  <dc:subject/>
  <dc:title>幻灯片 1</dc:title>
</cp:coreProperties>
</file>